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E484-6424-49A3-9F49-2E1AE42C6C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EA3D-D726-4F36-BFF7-6FFCA49237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160-0EB0-417F-BC9E-7F723467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3AC-432C-4574-B723-A330E4B4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AE8-3141-45BB-957A-9DBCFD24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CE2-BBFA-4EFA-857C-450BB53A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2A40-298F-450D-B03B-7AB0DAB2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62FD-931A-4AF2-B651-2B8BC2B6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567B-197A-4413-B6D0-C09923C6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33B9-0989-47FD-B574-2FA0221F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C6D2-5403-4A15-A8A2-FAD58E04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8550-3498-4BB6-BE81-53FF7BE4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EFCA-B4F9-4A1F-B9C3-9E4D29AF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ECF-A22E-4A29-B95D-AC8320CD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475D-0F63-4699-AA73-53B41E3D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41F5-662C-4D45-90D9-89923625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DBA8-8EA4-4AC8-9CD6-F0AD151B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52D7-3A74-415F-A8CF-5E7F7B6F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A211-0AD3-45C2-84C8-208C3500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4C05B-71B6-4BCF-B27E-A834BC10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112EC5-1E45-43DF-AC10-4D363ABB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B2DAD-0424-4B4A-A423-BFFFB528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5DFE2-5B41-4296-9243-21FC7542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A6764-66E7-48AC-AFC8-59C58333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45A-85F1-4BA8-85BD-230E0CEF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767FF-783F-4E7B-B8F5-E33CC5CE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0157D-0447-47B1-B917-E6A3E024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9B613-0FBD-4D09-9D5F-CD413679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7A1F9-D1D4-4C34-BC76-45AEA16D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3DEF5-614E-415C-A502-FCDA183A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8C9AE-80CB-48D8-88D9-CC078611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5E05B-D5E3-4774-A70B-ACDEC958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4D65C-D3C4-4B8A-80BE-7E31F6DF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7910D-5D98-4FF2-B0AA-EF4D9CD5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DB505-03DA-4F98-96F9-16BFFD2F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61B-BF62-4166-8069-7B94E1A8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27632-5E9A-4E9C-A415-8CCABD35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4972D-C30D-4C0E-B268-0E7EF59E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8043B-72D7-4CF4-8684-3B43E5C2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EA623-2668-4F5C-8308-026148D5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9CDA7-6074-4F1C-B94D-D35B2882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6C6BC-BAEE-4887-A75A-2A2EDCAB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DE00A-91F4-4ED4-9231-63542EAD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404B5-5816-4780-939A-B41BE7AA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46072-2529-44CD-9BF0-1174B831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BB8F9-4F7C-4B5F-B333-2DA25AA7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869-5747-4123-928D-48869602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C25C4-7EAF-4A12-8EED-6333BC53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2E3A5-69E5-4108-8449-15757EA5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A9B27-8E02-4998-98B9-501786FD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7F999-50E5-46B9-9106-65E91950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3B31B-A118-4BA3-8630-5060D061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E0596-77B3-4F26-9F38-9471DBDA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75860-7C9A-4A4D-8BB2-011586AB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543CB-9258-4199-8C21-BF9E6CBC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05EA0-1D70-41B4-BE5A-B5DC74A8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29122-7E27-407A-865B-640C9AC8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0E9-7263-45E4-BA34-5FB474BF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25F9F-7CF7-46C3-8008-E6C63665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5DDD0-BB9F-4F24-ABF6-52B2B862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CDF6B-B672-4DB9-8AFC-F450163F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A82168-41B8-4B64-8FCE-B4EC40F9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90BE6-6EBB-4E05-99B1-8AF6BAC1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7320D-46C9-4C70-ADBD-A116CA14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DACF3-7FDB-455F-9B4C-09816792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E92A3-CD35-4A9F-B7A2-FE346EEC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7414E4-4882-46ED-B16E-1F95AE2E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F24233-82CF-43C6-AE78-3B9B0A4F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BBF-50B3-4F34-8EA1-FDA82C28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4689C-3173-47E0-95C0-27E6E5AD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76759-682F-4479-857F-A4544B62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5E338-6B48-46F5-A9BF-328C3AD3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F599C-9904-409D-85D3-EA709C40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4AE058-20DF-4914-82B8-BEE29423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6EE5E2-C3DE-4040-B54A-9B9C87CB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996B6-DA1D-45D8-A029-D7761701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755548-AF17-4E02-AE12-51A0E7E8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564A3-C08F-4509-BE1D-3B72850D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C59BD2-83A7-4EAF-B9B9-3D9F3A2D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536-D604-4346-9C76-5367C649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D7FF2-68E0-440F-970A-2D37412E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F638A-5A66-4E8E-949B-56AB4CC7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BBB071-E85E-4C0A-A50F-D11A5924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B945ED-EC99-49CF-9A2C-C6FF63A9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53E8DE-D086-40C4-9B5E-B9B78B5E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347-41CB-4568-8074-CD37C069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58D0-8A7A-4339-80A1-D8A368F4D2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E9D3-59FA-401E-BFF5-A7D8C3EFC9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3FAB-8DFF-43A8-803B-E1BDC2082B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A240-EB0F-4E14-97C9-B21428501B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5BFE-185A-4BB5-80C3-CA3826CDBF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6540-5964-4E2E-818C-840F8CB4786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F791-D386-481B-ABD5-16E9A0376E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68000" y="18720"/>
            <a:ext cx="61722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ВЫБОР СТАБИЛИЗАТОРА ЭЛЕКТРИЧЕСКОГО НАПРЯЖЕНИЯ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123640" y="3231720"/>
            <a:ext cx="6172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найти электрические характеристики бытовых прибо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одзаголовок 2"/>
          <p:cNvSpPr/>
          <p:nvPr/>
        </p:nvSpPr>
        <p:spPr>
          <a:xfrm>
            <a:off x="2124000" y="4292640"/>
            <a:ext cx="6172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научиться их анализировать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одзаголовок 2"/>
          <p:cNvSpPr/>
          <p:nvPr/>
        </p:nvSpPr>
        <p:spPr>
          <a:xfrm>
            <a:off x="2124000" y="5157720"/>
            <a:ext cx="6172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научиться применять знания полученные на уроках в быту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http://igraemsvadbu.com/uploads/posts/2013-02/1362041128_tovar-458087.jpg"/>
          <p:cNvPicPr/>
          <p:nvPr/>
        </p:nvPicPr>
        <p:blipFill>
          <a:blip r:embed="rId1"/>
          <a:srcRect l="0" t="0" r="0" b="10874"/>
          <a:stretch/>
        </p:blipFill>
        <p:spPr>
          <a:xfrm>
            <a:off x="0" y="189000"/>
            <a:ext cx="5448240" cy="3938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268600" y="333000"/>
            <a:ext cx="38494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КАК ЗАЩИТИТЬ ТЕХНИКУ ОТ ПЕРЕПАДОВ НАПРЯЖЕНИЯ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9" descr="http://www.bigtool.ru/cms-images/bigtool_goods_goods/6855_1.jpg"/>
          <p:cNvPicPr/>
          <p:nvPr/>
        </p:nvPicPr>
        <p:blipFill>
          <a:blip r:embed="rId2"/>
          <a:stretch/>
        </p:blipFill>
        <p:spPr>
          <a:xfrm>
            <a:off x="155520" y="4365720"/>
            <a:ext cx="2687760" cy="2209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http://kotlov.by/images/teksty/stabilizator_napryazenia.jpeg"/>
          <p:cNvPicPr/>
          <p:nvPr/>
        </p:nvPicPr>
        <p:blipFill>
          <a:blip r:embed="rId3"/>
          <a:stretch/>
        </p:blipFill>
        <p:spPr>
          <a:xfrm>
            <a:off x="3292560" y="4594320"/>
            <a:ext cx="2052720" cy="2050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http://images.prom.ua/10081076_w640_h640_vk1000e.jpg"/>
          <p:cNvPicPr/>
          <p:nvPr/>
        </p:nvPicPr>
        <p:blipFill>
          <a:blip r:embed="rId4"/>
          <a:srcRect l="0" t="9146" r="0" b="16107"/>
          <a:stretch/>
        </p:blipFill>
        <p:spPr>
          <a:xfrm>
            <a:off x="5364000" y="4560840"/>
            <a:ext cx="2656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ЗАПОЛНЯЕМ ШАПКУ ОТЧЕТ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ланк-отчет группы № 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 группы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: 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Иванов 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Лебедева 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и т.д………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476280"/>
            <a:ext cx="7467480" cy="59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бирая  технику обращайте внимание на класс энергопотребления, заявленную мощность, точность необходимой стабилизации напряж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метьте в выбранном списке приборы, которые будете подключать через стабилизато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считайте суммарную мощность выбранных прибо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бирая стабилизатор или ИБП обратите внимание на его мощность и точность стабилизац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 есть несколько подходящих устройств, то сравните стоимост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96600" y="486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ХРАНИТЕ ОТЧЕТ С ИМЕНЕМ НОМЕРА СОЕЙ ГРУППЫ. НАПРИМЕР: 1.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XLSX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96720" y="2565360"/>
          <a:ext cx="7921800" cy="939960"/>
        </p:xfrm>
        <a:graphic>
          <a:graphicData uri="http://schemas.openxmlformats.org/drawingml/2006/table">
            <a:tbl>
              <a:tblPr/>
              <a:tblGrid>
                <a:gridCol w="1197000"/>
                <a:gridCol w="1962360"/>
                <a:gridCol w="1197000"/>
                <a:gridCol w="1614240"/>
                <a:gridCol w="1951200"/>
              </a:tblGrid>
              <a:tr h="5637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ртик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а, 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ощность, кВ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очность стабилизации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89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тю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72" name="TextBox 4"/>
          <p:cNvSpPr/>
          <p:nvPr/>
        </p:nvSpPr>
        <p:spPr>
          <a:xfrm>
            <a:off x="720720" y="1484280"/>
            <a:ext cx="72738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о все колонки, кроме названия, вносите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только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цифры без единиц измерения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характеристики техники вносите на листе «приборы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характеристики стабилизаторов на листе «стабилизаторы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веряйте  наличие ошибок на странице «проверка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Заголовок 1"/>
          <p:cNvSpPr/>
          <p:nvPr/>
        </p:nvSpPr>
        <p:spPr>
          <a:xfrm>
            <a:off x="692280" y="2602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АВИЛА ЗАПОЛНЕНИЯ ЭЛЕКТРОННОГО БЛАНКА ОТЧЕТ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ТЧЕТ ГРУПП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уппа №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уппа №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уппа №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уппа № 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уппа №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уппа №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ВОДЫ: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3141720"/>
            <a:ext cx="746748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нание физических характеристик приборов и принципов их рабо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нимательное изучение инструкц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зволяет рационально использовать имеющиеся средст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1042920" y="162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аши предложения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ОМАШНЕЕ ЗАД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вторить параграфы 33-4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готовить сообщение (или презентацию, или реферат) по одной из те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Классы энергопотребления электрических приборов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Электрический счетчик – физический прибор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Способы экономии электроэнергии в быту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17:05:10Z</dcterms:created>
  <dc:creator>1</dc:creator>
  <dc:description/>
  <dc:language>en-US</dc:language>
  <cp:lastModifiedBy>admin</cp:lastModifiedBy>
  <dcterms:modified xsi:type="dcterms:W3CDTF">2024-04-05T08:50:12Z</dcterms:modified>
  <cp:revision>18</cp:revision>
  <dc:subject/>
  <dc:title>Выбор стабилизатора электрического напряжения</dc:title>
</cp:coreProperties>
</file>